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8FA-2EF0-45EB-9F86-A3BC99BC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FA6-87AA-4480-BB62-18F8570A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EBD-41A2-4E62-9529-0D8C7547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DA1-9D6D-4693-B6DA-85D0816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8A29-8EDD-4EB7-8064-58274FAD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BF3-7FE6-429B-BFAC-6E59CEA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C3B5-45AE-4896-AF7A-24A5C264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50C3-F139-4E08-B08C-728BB80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519D-529E-4C64-B3DE-57314EC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EEE-A034-414C-A86E-8CD1638F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F4E-3EAA-4A90-BE92-F90DD07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222-2A94-460A-B4D9-5A5948C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C06-5518-4320-902D-48787F5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567-05CF-42D7-BEE7-EF874D6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8D6B-4AA8-42D9-92B2-08BF7E3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0656-3790-4839-8D60-0FC5522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EB8-232B-4564-BD9D-47516EFD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B041-F7D3-4DEA-8580-8B55E8E0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5B7B-4A9F-4A0C-94CF-83BE35F1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0376-241B-4C2F-BB18-FCE3A8EF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18BD-6566-4F8F-9F7E-730B503D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6A93-184D-424B-8CF0-0C65D29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593-E0B4-4AEF-B799-A3B72E4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CB7F-9C99-41B3-BC92-1228446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0567-16E9-42A7-B23E-DF3B782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8DD8-3DF1-4D7A-8113-5F1FC5F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D370-17D8-408E-95FA-E6EBE47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5670-8B5A-46A5-AB5A-AC970C7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703E-1B75-455D-95C3-0B9A3396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1D16-B647-475C-9C87-CFC02564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9A80-A6AE-4883-9F01-D31D4D27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6508-329C-4A34-997F-984DF403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D878-26E5-44CA-92F8-B260335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CE9-F65E-4948-B983-8EC9695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C9F4-9B54-4A65-8A04-BA92264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6AD4-AF1C-4154-AD5F-5C9EE35E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6380-D620-4769-92E2-3FF50E54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5ACD-D875-46E0-9BC4-B38938D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ECF1-96E2-4D3C-AE35-E736F5B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C3C0-A183-49B8-877D-DB32D21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04EF-F03A-4AB6-9647-336EC49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C906-AB3C-4B54-8E02-AD3EB588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83E2-E237-4074-8057-DE6C606A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537-D70C-4115-8811-2546A92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78B-D17A-4274-B5A9-8958DA35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49D-B83C-4D6D-BF84-C364A75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9F8-F213-4269-9BE5-89FE0CA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774-19E9-4935-80F4-814E367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4CFE-ED83-46E9-9CB4-60583DE4EA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0B1-C639-4F4B-A0C3-9A359E501D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D8B-E60C-41B6-A376-DE041B7704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22E-6CD2-45BA-82DF-B3C8751361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Jerin, Kayle, Katie O., Alex, Bethany, and Kirst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MSj04416380000[1].wav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5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333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anama:  warm all year with only one dry season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asta Rica:  East side warm all year and the West is rainy and wet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atemala:  Highlands temperatures var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elize:  Warm and wet all year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icaragua:  Warm and wet all yea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onduras:  Warm and wet all year.  Temperature also varies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7854840" cy="2819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uatemala city (Guatemal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elmopan (Beliz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an Salvador (El Salvador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nduras (Tegucigalp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nagua (Nicaragu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an Jose (Costa Ric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anama city (Panam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676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78548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re is 39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lize has 30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sta Rica has 4,59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 Salvador has 663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atemala had 14,02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nduras 7,466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aragua has 5,743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nama has 3,454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590400" y="1341360"/>
            <a:ext cx="8309160" cy="1395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Volcano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 height 10,000 ft or 3084 mile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ch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Nicaragu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Panam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Forse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Izab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Tehuantepe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rass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ush green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res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590400" y="1341360"/>
            <a:ext cx="8309160" cy="1395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Volcano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 height 10,000 ft or 3084 mile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ch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Nicaragu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Panam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Forse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Izab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Tehuantepe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rass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ush green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res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Desert like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alkland Island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alado Lagoon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530280" y="549360"/>
            <a:ext cx="8265960" cy="1743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7854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oden serving pie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s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 i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texti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mmo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t Produ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t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made doll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cking Chai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2362320"/>
            <a:ext cx="7854840" cy="2619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ttle Ranch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rming (bananas, coffee, cocoa, and cotton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530280" y="1079640"/>
            <a:ext cx="8265960" cy="1041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548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op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lv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in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canic so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she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ke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0:03:14Z</dcterms:created>
  <dc:creator>Jeffco Schools</dc:creator>
  <dc:description/>
  <dc:language>en-US</dc:language>
  <cp:lastModifiedBy>Jeffco Schools</cp:lastModifiedBy>
  <dcterms:modified xsi:type="dcterms:W3CDTF">2010-04-16T18:31:17Z</dcterms:modified>
  <cp:revision>11</cp:revision>
  <dc:subject/>
  <dc:title>Central America</dc:title>
</cp:coreProperties>
</file>